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71FD-8755-4D19-A3B4-E3190E46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DA4D-7D69-4216-97F5-8F2EE64E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42C5-2049-462A-B4C4-95DEACBE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71E-E8B4-4478-832C-99A1E76F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6756-43C1-48C2-A783-D37D7A35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41DA-D65B-41FD-9A2D-CFF4CD27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B7ED-B817-4C2E-AFA5-77DCD7C3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D4BA-1550-4A06-8AE1-C1AC0861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0A8B-BACA-48CC-97FF-954A4EE4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8D53-ABB7-48C1-AAB5-75EEC62A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7345-A263-41DD-85B3-04CE7F59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F89D-20E9-4701-BB8F-18872BDE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0FDD-ADB2-46CC-9D77-B870842F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BAAF-B9A5-4CFF-BF2F-D657D71C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7787-E658-4B48-8E3F-1C3CA5F0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A755-3C2D-4165-8057-C0205ABC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6FA7-7DAD-416D-A2FA-86AA9786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5D5-B0D8-4310-A136-6D68C7DE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FA81-A10D-490C-9E98-BFDA90CB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EDF0-7647-4D68-B5B4-3FF6E3B2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1E5-756A-4DDE-BD3D-22D9076F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146C-79F9-44BE-A796-04F71EC9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5744-9667-417F-94DB-48820C01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41A0-A8FD-40C2-BEDB-0E03AE3B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FB5B-A431-48DB-9EDF-406D2D9A263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5FAC-EE70-419E-A626-EFC51477307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m </a:t>
            </a:r>
            <a:r>
              <a:rPr b="0" lang="ro-RO" sz="5400" spc="-1" strike="noStrike">
                <a:solidFill>
                  <a:srgbClr val="ffffcc"/>
                </a:solidFill>
                <a:latin typeface="Tahoma"/>
              </a:rPr>
              <a:t>învăţat să socotesc !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ână la 100 e uş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Ordonăm nume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Mama m-a trezit după ce a cântat cocoşul de 45 de ori,eu am numărat încă 13 , a cântat mult, de 58 de o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66880" y="396252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Fac uşor adunări şi scăder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26+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3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4+18=7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+7=1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4-5=6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-3=1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6-7=1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4671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Tahoma"/>
              </a:rPr>
              <a:t>Aflu termenul necunoscut</a:t>
            </a:r>
            <a:br>
              <a:rPr sz="4000"/>
            </a:b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am atâtea cireşe câte mai culeg să 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am atâte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1752480"/>
          <a:ext cx="403848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0384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241520" y="315756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55480" y="2971800"/>
            <a:ext cx="70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51800" y="2971800"/>
            <a:ext cx="616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22120" y="304812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85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9:17:50Z</dcterms:created>
  <dc:creator>Albert Hajnalka</dc:creator>
  <dc:description/>
  <dc:language>en-US</dc:language>
  <cp:lastModifiedBy>Albert Hajnalka</cp:lastModifiedBy>
  <dcterms:modified xsi:type="dcterms:W3CDTF">2010-08-25T10:12:30Z</dcterms:modified>
  <cp:revision>3</cp:revision>
  <dc:subject/>
  <dc:title>Am învăţat să socotesc !</dc:title>
</cp:coreProperties>
</file>